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360-C2C5-46EE-B981-E48EFA94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5B9-218C-4198-9F5D-74A7AE2A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6BD-6243-4965-9923-0532D863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A64-7E9E-48C2-BCA8-BBDFF906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84D-526E-4124-A3E2-6AB09DBD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D00-BC16-4C6B-80EB-0F972CD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436-303D-4AE3-A040-FE95C409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D81-5A5C-4A34-8670-F9A6D17B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B32-6DC8-46D8-82B8-DCCEB16F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58F-78EA-44C3-965B-B242042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6FD-6FDB-4B57-A632-1B5F68C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840-0E81-4C04-B0EC-7683976E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29E6-0D05-49E5-8ED7-081164C62F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76520" y="1143000"/>
            <a:ext cx="5778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ISLAMIC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IVILISATIONS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0"/>
            <a:ext cx="48006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ere is the Middle East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04920" y="228600"/>
            <a:ext cx="41274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Holy City of Mec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3695760"/>
            <a:ext cx="3352680" cy="252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4800" y="1676520"/>
            <a:ext cx="4419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cca is the most important city in Isl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where Islam was born and where Muhammad ru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Kaa’ba is there, a large black box which contains the most important artefact of Islam, a piece of rock from Heaven found by Abraham. Millions visit each year, and only Muslims are allowed to enter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3174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1295280"/>
            <a:ext cx="6477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is the fastest growing religion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is the main religion in the Middl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founded by Muhammad in 610 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believes “There is one God, Allah, and the prophet Muhammad was his messeng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means “submission to Go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28600" y="22860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Five Pilla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6094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lam has five main duties and beliefs which all Muslims should carry out. These are called the Five Pillars and they support the entire fa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657600"/>
            <a:ext cx="1904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Zaka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iving to Ch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3581280"/>
            <a:ext cx="198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j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ilgrimmage to Me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4864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ahadah - declaration of fa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32004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a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762120"/>
            <a:ext cx="7772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MUSLIMS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are their faith - There is one God, Allah and Muhammad is his mes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 during the holy month of Rama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y five times a day, facing the direction of Me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 10 % of what they earn to ch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t the holy city of Mecca at least once in their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990720"/>
            <a:ext cx="72392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aw and label the five pillars of Islam in your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aw a timeline of the development of Islam, here are some key events you will need to incl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10AD Muhammad begins pr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22 the Hijrah, the first Muslim community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32 Muhammad 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199 the capture of Jerusa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215 The Third Crus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2:49:29Z</dcterms:created>
  <dc:creator>Jo Norton</dc:creator>
  <dc:description/>
  <dc:language>en-US</dc:language>
  <cp:lastModifiedBy>Russel Tarr</cp:lastModifiedBy>
  <dcterms:modified xsi:type="dcterms:W3CDTF">2003-03-26T17:13:01Z</dcterms:modified>
  <cp:revision>3</cp:revision>
  <dc:subject/>
  <dc:title>PowerPoint Presentation</dc:title>
</cp:coreProperties>
</file>